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FDE-4142-4712-A8E0-A13E2AB4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203-EDD4-4BC4-9FDA-699AF4EF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AF9-6982-44B7-A951-3A7F2DE8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FC6-2DF1-48DF-9B96-0D38C878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499-6DC7-4888-BA27-962AD9AC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512-50FF-46A3-8336-F2323B5C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BD6-2A25-4B50-8132-CFACB7D0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683-6471-4B03-9991-E4FC2AFC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AF3-8EB7-4C3B-B286-1477EDF8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89F-78FE-423D-BF17-EBF9AECF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2F4-204E-4ED0-97C1-7E77C71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4AA-0A80-4976-BB33-064A140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1493-8096-43E6-B2D4-88591713B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7360" y="1143000"/>
            <a:ext cx="43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ow I Bec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 Pir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505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936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111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69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4320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85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43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401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59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7256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440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988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568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884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1320" y="16765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676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92560" y="1676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15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732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7160" y="1676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53000" y="1719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9072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16765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432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8164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568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8676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008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26654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8124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28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37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718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0600" y="1719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720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640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2646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67652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3808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765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496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400" y="1719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9076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2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9132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2592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851200" cy="2611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68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8580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57400" y="1719360"/>
            <a:ext cx="2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43200" y="171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252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483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341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19920" y="171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05720" y="171936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1:11:04Z</dcterms:created>
  <dc:creator>Rutherford County Schools</dc:creator>
  <dc:description/>
  <dc:language>en-US</dc:language>
  <cp:lastModifiedBy>Rutherford County Schools</cp:lastModifiedBy>
  <dcterms:modified xsi:type="dcterms:W3CDTF">2007-04-21T15:50:11Z</dcterms:modified>
  <cp:revision>7</cp:revision>
  <dc:subject/>
  <dc:title>Slide 1</dc:title>
</cp:coreProperties>
</file>